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D7C-E8BD-4677-A82C-C8891759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6EEC-981A-4C24-BA97-8661EDCC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6E35-53E2-4346-AE5E-8658DA47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0946-1120-4020-9018-A4FA47B3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AF781-FC26-40DF-945B-EB7FFDCF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3E6F2-8A9B-4985-8852-45F6645B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1E0A2-2541-4CF2-9D1A-A865CE13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1A555-495C-4805-AED9-E087FB80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ACAD2-E03C-4A4D-A90E-7941533E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BB7FC-E0EC-49EC-A150-C683A1AA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BCFA4-7DBF-4E39-AAB2-72CE2A80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4811-C6A7-40B3-9039-0557E574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0A0CA-F178-41D2-B71F-2517ABAF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54C3E-9302-4318-9AFB-E0FE9D01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02520-60B0-4E84-B271-90ED5497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71C58-569A-4CAA-9C82-8D3A246A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7EF19-92F4-443D-88D9-F0738ED5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9E23-B638-43AD-AD88-FD235E6B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6101-E47C-43C1-976D-05225BE7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D561-B686-4902-A36D-A49BDDD5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6265-60A7-4596-8B42-A4633AAC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A2D4-094E-4FFA-88AF-CD0792CF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5EF9-B2F3-48A0-9940-E48629F3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0ACA-C83D-4F4B-B53B-49C8845F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EE83-D4F0-451B-9987-8D371D1F8C4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2979-113E-44C6-A677-3F992DD059C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475920"/>
            <a:ext cx="64008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状 语 从 句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状语从句是用来修饰主句的谓   语动词，表示动作发生的时间，地点，原因，条件，行为方式，结果，程度，让步等等，以下对状语从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一作介绍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cause it had not been raining for quite 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long time , that year was a dry 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: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cause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弱，不表强烈的因果关系，即可在句首又可在后面，不是重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 her parents are music teachers, she is into music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he is a little fat as she is always ea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t is/ was … that …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强调句型中，常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cause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而不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ince/ Now that... :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只在句首，表众所周知的原因，“既然…，由于…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ince /Now that the earth moves around the sun, we have four different seasons in a ye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ince /Now that everybody is here and everything is ready, let’s begin our mee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Now that you have already understood about it , I won’t say anything m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for: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在句首，表补充说明，“大概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大约因为”，有“，” 与主句隔开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pring has come, for flowers have come out these d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 have to say goodbye now, for it is v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ark outs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四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条件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f, as/so long as, unles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等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在条件状语从句中，常常用一般现在时态来表示将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f it is fine tomorrow, we shall go out for a picnic instead of staying ins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/So long as you work hard, you’re sure to pass next month’s examin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unless= if… n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he WTO cannot live up to its name unless it includes a country that is home to 1/5 of manki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You won’t succeed unless you work harder than bef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 in case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用一般现在时态来表示将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o remember to bring the raincoat with yourself in case it rains this afterno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五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行为方式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o as you are told/li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o as you’re at ho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六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结果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o that, in order that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tart off a little early so that you won’t miss the early b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My father had to go to work when he was very young in order to support the fami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七程度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o…that, such…that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he is so young this year that she can’t go to school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uch a grea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Einstein was                       scientist th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o great  a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he received the world-wide respect and lo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t is so hot today that I have to stay inside.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203640" y="3068640"/>
            <a:ext cx="144360" cy="1224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八让步状语从句：由以下句型构成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).Although/Though…, (yet)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注意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:but /however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和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lthough/Though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连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lthough she was ill yesterday, she went to work, but she didn’t stay lo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--- Why do you prefer coffee tonight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--- Although it keeps me awake, I still prefer coffee to tea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d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)However +          +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从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主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d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However cold it was that day, there were many people in the stree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He still failed in the exam, however hard he tried. Lend him some help, will you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3) …even if/ even though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 won’t believe him even if/though he says  about it time and ag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276720" y="691560"/>
            <a:ext cx="215640" cy="1368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当让步状语从句所指的是一种假设的情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时，通常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hough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而不是用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lthough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hough everybody desert you, I won’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hough they might do and say someth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bout our plan, we won’t give 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e will always stay all together though w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‘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ll happen to meet all kinds of difficul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多数情况下，两个词可通用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897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897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897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897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97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97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97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897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一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时间状语从句：由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when, as soon as, the moment, immediately, while, as, every /each time, after, before, until, sinc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等引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When/As soon as/ The moment /Immediately she knows about the good news, she’ll be madly happy and exci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Every/Each time he comes back from abroad, he’ll find great changes in his hometown and be greatly encourag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dj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4).    v.       + as/ though…+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从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主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dv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hild as he is, he is so learn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old as it was the other day, we ha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tand in the cold air, waiting for hi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ry as/though she could,she didn’t pass       the examination last week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981000"/>
            <a:ext cx="504720" cy="1800360"/>
          </a:xfrm>
          <a:custGeom>
            <a:avLst/>
            <a:gdLst>
              <a:gd name="textAreaLeft" fmla="*/ 322560 w 504720"/>
              <a:gd name="textAreaRight" fmla="*/ 505080 w 50472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Much as/though they have already lear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about the war, there’s still something v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important for them to mas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What, who, whom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5).                                 +-ever +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从句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,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主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When, where,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此句型不仅仅用来引导让步状语从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Whoever he is, he’ll be punished if he breaks t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la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* Whoever breaks the law will be punish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1844640"/>
            <a:ext cx="216000" cy="136836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3860640"/>
            <a:ext cx="71280" cy="1152720"/>
          </a:xfrm>
          <a:custGeom>
            <a:avLst/>
            <a:gdLst>
              <a:gd name="textAreaLeft" fmla="*/ 45720 w 71280"/>
              <a:gd name="textAreaRight" fmla="*/ 71640 w 712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him whatever he s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 don’t belie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atever he s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o, whom, wh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6).No matter +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n, where, 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从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主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此句型仅仅用来引导让步状语从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836640"/>
            <a:ext cx="142920" cy="1297080"/>
          </a:xfrm>
          <a:custGeom>
            <a:avLst/>
            <a:gdLst>
              <a:gd name="textAreaLeft" fmla="*/ 91440 w 142920"/>
              <a:gd name="textAreaRight" fmla="*/ 143280 w 14292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06920" y="2637000"/>
            <a:ext cx="73080" cy="107928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matter who he is, he’ll be punished if he breaks the la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on’t believe him no matter  what he s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matter how I apologized to her, she wouldn’t forgive me for th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matter where you go in China now, you can find great changes everywhere have taken place in h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7. While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尽管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ile she is famous, she isn’t respec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as/so far as…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根据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/ So far as we know, there’re 107 elem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ents in natu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76500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在时间状语从句中，用一般现在时表示将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n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个句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1) I was about to leave when the telephone ra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) She was doing her cooking when she heard the clock strike twel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3) Hardly had I got home that day when it began to rain heavi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ile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的用法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)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≈when/as: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和持续动词连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2)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在句中，表鲜明的对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3)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作名词，意为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a short time 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4).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作连词，意为“趁… ”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5)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引导让步状语从句，意为“尽管…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e.g. While staying in the countryside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I learned a lot from the farme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*when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常和短暂动词连用；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a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表示主句的谓语动词和从句谓语动词同时发生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, e.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1270080"/>
            <a:ext cx="287280" cy="2303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When I came in, I found she was surfing on the internet in her stud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As they were walking, they were telling each other stor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he is fairly pretty while I’m rather ug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Would you wait for me for a whil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trike the iron while it is ho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he is not respected while she is famou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It will be months before we meet ag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Let’s have a good drink to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短暂动词      用否定         时间状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v                                +unt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持续动词     用肯定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时间状语从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didn’t go to bed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She                             until 10 last n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stayed 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2060640"/>
            <a:ext cx="71280" cy="1224000"/>
          </a:xfrm>
          <a:custGeom>
            <a:avLst/>
            <a:gdLst>
              <a:gd name="textAreaLeft" fmla="*/ 45720 w 71280"/>
              <a:gd name="textAreaRight" fmla="*/ 71640 w 71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989000"/>
            <a:ext cx="71640" cy="1368720"/>
          </a:xfrm>
          <a:custGeom>
            <a:avLst/>
            <a:gdLst>
              <a:gd name="textAreaLeft" fmla="*/ 45720 w 71640"/>
              <a:gd name="textAreaRight" fmla="*/ 72000 w 7164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48000" y="2133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3640" y="3213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35280" y="3789360"/>
            <a:ext cx="72720" cy="1297080"/>
          </a:xfrm>
          <a:custGeom>
            <a:avLst/>
            <a:gdLst>
              <a:gd name="textAreaLeft" fmla="*/ 46440 w 72720"/>
              <a:gd name="textAreaRight" fmla="*/ 73080 w 7272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Since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的句型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is                                                    d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It        +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一段时间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+ since+ S1 + V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was                                                had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d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短暂动词         正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V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持续动词         相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He works at a chemical plant; it is half a year since he was a college stude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1341360"/>
            <a:ext cx="73080" cy="1008000"/>
          </a:xfrm>
          <a:custGeom>
            <a:avLst/>
            <a:gdLst>
              <a:gd name="textAreaLeft" fmla="*/ 46800 w 73080"/>
              <a:gd name="textAreaRight" fmla="*/ 7344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1341360"/>
            <a:ext cx="142920" cy="1008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3284640"/>
            <a:ext cx="71280" cy="93636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21080" y="3284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48000" y="4221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gan to l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t’s 3 years since he                          he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li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二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地点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re, wherever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re there’s a will, there’s a w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re there’s money, there’s the pow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rever you go in China, you can find great changes have taken place recent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Make marks where you’ve got ques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765000"/>
            <a:ext cx="142920" cy="1151280"/>
          </a:xfrm>
          <a:custGeom>
            <a:avLst/>
            <a:gdLst>
              <a:gd name="textAreaLeft" fmla="*/ 91440 w 142920"/>
              <a:gd name="textAreaRight" fmla="*/ 143280 w 14292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amboo can grow well where it is wet and war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re I live, there’re plenty of sheep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三原因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cause, as, Since/Now that, for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等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cause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表强烈的因果关系，既可在句首又可在后面，是重点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he couldn’t go on with her study because the family was too poo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07:43:09Z</dcterms:created>
  <dc:creator>wang xing zhong</dc:creator>
  <dc:description/>
  <dc:language>en-US</dc:language>
  <cp:lastModifiedBy>wang xing zhong</cp:lastModifiedBy>
  <dcterms:modified xsi:type="dcterms:W3CDTF">2003-12-14T02:48:28Z</dcterms:modified>
  <cp:revision>69</cp:revision>
  <dc:subject/>
  <dc:title>状 语 从 句</dc:title>
</cp:coreProperties>
</file>